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B83-92C8-44AE-9863-62B59818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B95-B090-4101-9226-1D117C41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3A7-2B6B-4E92-940D-5087F98E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751-76A2-4998-A315-FDB8A886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1AD-472E-4A78-9072-609169CA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914-B12C-4303-BEF3-06B21F7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6D43-0CB1-4AFF-992C-2570839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45C-65E5-4631-8D34-308FA2D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3533-D659-4370-BA7A-13BC58A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7DAD-2854-4316-840C-FDDAC0E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3F9-661D-4A04-AD44-B66D482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D7B-6C47-4595-9331-DF72AFB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343-F389-4BE2-8509-3DBFAA0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3843-C3F9-4099-B8DB-9D38719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2CB-0F40-41E2-AAF5-0F9D475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8BF-A094-447D-B194-0351C607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275-9EE8-4C38-A67F-4A13F12B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C296-12E0-4242-9BB6-D450DCD5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C8EF-315D-4666-B922-8976CB2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D7FA-FE21-4680-A4D6-59AC455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B75C-9A87-47B4-A7C8-92AD10C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D123-B182-403A-AC40-4F8BD415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A72-912C-44E7-A091-8FA45EC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ED3C-2F07-4C18-9DA6-88824D1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D70D-4901-499C-94FC-7A5BE9B2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B413-FB64-4C93-B2AD-37BA3E82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424E-BA98-4BDC-978C-B4473F2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C172-714B-467A-B998-ABF9C0BA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D88D-3DDD-4FD0-B285-1DDE4846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ED97-7D13-4D24-BE93-02D43685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C6FA-2561-41B6-B01B-DE099384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4A54-74BA-4A5D-B1D9-2385DA4E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AE18-C720-4E6F-8741-EDE0731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69F-BE6E-42FA-A5E1-01DDC48B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0F55-0D55-4D33-8E78-83327AFF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22D3-95FD-4C4E-8EB4-3EDA8ED7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D046-2C28-4D54-85C1-06EDA997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5BAB-818A-4EC8-BED7-144C65C3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172E-4F2A-4674-A18A-1DDA539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489C-79FD-407C-B272-FBEA0BE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5A4F-ADE4-4952-BD38-151F588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D1A9-600C-4A4F-BBAC-257243F4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2988-1980-43D8-AA45-B9035052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C374-931D-4111-AC55-28C7B130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F69-E92D-46F7-B57C-364A1705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2AE2-D089-4D9C-BA77-B5BC1F6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B6DC-E8A6-41A5-8FBB-0C8FFD9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A6FF-0FDD-41A6-8570-790D33AD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C1311-7049-4C63-88B6-AB61DE3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4881-924D-463D-85F8-A4089B9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60CD-E784-49E6-A4BD-445C619B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0E6A-1251-4D7B-B4B2-AA9A221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DCE5-872B-4EE4-919D-1A30335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A4CD-5EC8-4520-9E26-BE77BE0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EBA9-D43C-4F72-B840-3EDE5D28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B6B-B4DD-4B42-8540-7CCE9B9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590E-6C2E-4763-9D3C-C24B1F5D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61D0F-09B3-4021-BF2B-35408989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01A0-F034-4904-BB2D-D1E3B085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4309A-0EA8-4202-B02D-44960EBA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1BC61-B817-40B5-9767-879E57D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460E3-8E76-4B38-B9A7-1D7C4604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9DB0-45E6-49D3-A301-86E11ED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A8711-9082-4AA4-952F-0703F05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E6C4-F6D5-4DF8-A9DD-3EBC90B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0F0F-A245-446C-B7A3-10A8B70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332-26EF-4F72-9DCF-088C215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995D3-AC4E-4FA8-880F-E0830DEF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4E04-1A39-49ED-9F26-E331CB3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9824-2842-4281-8C20-B24E0A19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91B7-8152-48B5-8ADB-BECE020E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3CC15-AFF8-4E8E-B481-28EB197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9145A-8C2C-4179-85F8-D5E7850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C299-A5D1-4E6B-9C40-DAEF8A0E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A8AD-17E4-4BAF-855E-C9FA8B1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2EB4B-1096-449B-9D41-D386835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388B-3F1E-4B27-B8E1-E4D0F88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3DF-0723-4A2D-88EB-338A986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A3106-B780-4D04-8FE4-AE4E33E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8673-3703-44C1-9107-421CD62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B272-F162-4D8F-A029-7308D58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A1F5-CCC5-4582-8F19-BEEC1C31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640C-39F8-4F4F-9538-E67E6F0D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BB6-C6B2-48A0-A9AF-50DBE1A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8EEFE-DC2A-407B-B9C3-2A995BD658A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D3C63-CB94-46FF-A94A-B5FE0275F9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6B89C-524B-40A0-AA1E-46169FC3F90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DEAA3-A657-4595-AE6D-FA9407E5E9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EFB71-EE6B-4E27-BF1B-375698A3A6B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E3E89-CD6A-4313-A57A-0C0DBA62CE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EDF94-241D-4015-ABB6-7B39E68B919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E5BA8-60CF-4E0A-BA9D-DF7AA14D3E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A7347-1C1D-4367-85E9-3D6EBE16B4B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EDD77-2F9C-4F04-9A15-4B28858394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24590-FBFD-499C-BB8B-D85394AA487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4DBB6-20A0-4C78-8BAB-AF7F35E034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C6B1B-7DAB-4D19-AE9D-9FFF8AF9547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420A7-E9F8-40DC-9781-93D1A19A7B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llring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What is wind?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24000" indent="-1143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MT"/>
              </a:rPr>
              <a:t>What is convection?</a:t>
            </a:r>
            <a:endParaRPr b="0" lang="en-US" sz="6500" spc="-1" strike="noStrike">
              <a:solidFill>
                <a:srgbClr val="000000"/>
              </a:solidFill>
              <a:latin typeface="Gill Sans MT"/>
            </a:endParaRPr>
          </a:p>
          <a:p>
            <a:pPr marL="1224000" indent="-1143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MT"/>
              </a:rPr>
              <a:t>What is the Coriolis Effect?</a:t>
            </a:r>
            <a:endParaRPr b="0" lang="en-US" sz="6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y are there different temperatures on the earth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2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 MT"/>
              </a:rPr>
              <a:t>Which type of air is more dense?</a:t>
            </a:r>
            <a:endParaRPr b="0" lang="en-US" sz="5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What is wind?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 MT"/>
              </a:rPr>
              <a:t>What causes wind?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 MT"/>
              </a:rPr>
              <a:t>Monique says that winds move from high pressure to low pressure.  Do you agree or disagree?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If it is warm in Ms. Roth’s room, but really cold in the hallway, which way will the air move?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7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 MT"/>
              </a:rPr>
              <a:t>What is convection?</a:t>
            </a:r>
            <a:endParaRPr b="0" lang="en-US" sz="6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8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Gill Sans MT"/>
              </a:rPr>
              <a:t>What causes winds to curve on earth?</a:t>
            </a:r>
            <a:endParaRPr b="0" lang="en-US" sz="5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88560" y="25268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572314"/>
                </a:solidFill>
                <a:uFillTx/>
                <a:latin typeface="Gill Sans MT"/>
              </a:rPr>
              <a:t>4.6 Independent Practice</a:t>
            </a:r>
            <a:endParaRPr b="0" lang="en-US" sz="5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 u="sng">
                <a:solidFill>
                  <a:srgbClr val="572314"/>
                </a:solidFill>
                <a:uFillTx/>
                <a:latin typeface="Gill Sans MT"/>
              </a:rPr>
              <a:t>4.6 Wind Class Notes</a:t>
            </a:r>
            <a:endParaRPr b="0" lang="en-US" sz="5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emperatures on Ear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7760" y="144756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sun heats the earth unevenly.  As a result, some areas on the earth are cold and some areas of the earth are hot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2930400" y="3838680"/>
            <a:ext cx="600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1. Where will it be warm on earth in summer?  Where will it be cold? Why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438120" y="2690640"/>
            <a:ext cx="82677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87240" y="85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58880" y="1133640"/>
            <a:ext cx="8385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ill Sans MT"/>
              </a:rPr>
              <a:t>Cold air is more dense, so it creates high pressure.  Warm air is less dense, so it creates low pressure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312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Gill Sans MT"/>
              </a:rPr>
              <a:t>Air moves from high pressure to low pressure creating wind. Wind is moving air. 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rcRect l="0" t="0" r="0" b="21952"/>
          <a:stretch/>
        </p:blipFill>
        <p:spPr>
          <a:xfrm>
            <a:off x="3933720" y="4659480"/>
            <a:ext cx="52102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t’s Practic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at causes low pressure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at causes wind?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  <a:p>
            <a:pPr marL="995400" indent="-9144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 Sans MT"/>
              </a:rPr>
              <a:t>Which direction does air move? </a:t>
            </a:r>
            <a:endParaRPr b="0" lang="en-US" sz="5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ve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Gill Sans MT"/>
              </a:rPr>
              <a:t>Convection is the movement of air and liquids because of differences in temperatures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riolis Effe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Gill Sans MT"/>
              </a:rPr>
              <a:t>The curving of wind by the Earth’s rotation is called the Coriolis effect.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rcRect l="0" t="16345" r="0" b="0"/>
          <a:stretch/>
        </p:blipFill>
        <p:spPr>
          <a:xfrm>
            <a:off x="5889600" y="3956040"/>
            <a:ext cx="3254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4:05:13Z</dcterms:created>
  <dc:creator>Caroline Roth</dc:creator>
  <dc:description/>
  <dc:language>en-US</dc:language>
  <cp:lastModifiedBy>Caroline Roth</cp:lastModifiedBy>
  <dcterms:modified xsi:type="dcterms:W3CDTF">2011-05-24T02:28:04Z</dcterms:modified>
  <cp:revision>22</cp:revision>
  <dc:subject/>
  <dc:title>Wind trends</dc:title>
</cp:coreProperties>
</file>